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6.gif" ContentType="image/gif"/>
  <Override PartName="/ppt/media/image25.jpeg" ContentType="image/jpeg"/>
  <Override PartName="/ppt/media/image2.png" ContentType="image/png"/>
  <Override PartName="/ppt/media/apert2.wav" ContentType="audio/x-wav"/>
  <Override PartName="/ppt/media/image10.jpeg" ContentType="image/jpeg"/>
  <Override PartName="/ppt/media/image5.png" ContentType="image/png"/>
  <Override PartName="/ppt/media/image4.jpeg" ContentType="image/jpeg"/>
  <Override PartName="/ppt/media/image8.wmf" ContentType="image/x-wmf"/>
  <Override PartName="/ppt/media/image12.jpeg" ContentType="image/jpeg"/>
  <Override PartName="/ppt/media/image20.gif" ContentType="image/gif"/>
  <Override PartName="/ppt/media/image13.png" ContentType="image/png"/>
  <Override PartName="/ppt/media/image7.gif" ContentType="image/gif"/>
  <Override PartName="/ppt/media/image3.png" ContentType="image/png"/>
  <Override PartName="/ppt/media/image26.png" ContentType="image/png"/>
  <Override PartName="/ppt/media/image29.gif" ContentType="image/gif"/>
  <Override PartName="/ppt/media/image30.gif" ContentType="image/gif"/>
  <Override PartName="/ppt/media/image14.jpeg" ContentType="image/jpeg"/>
  <Override PartName="/ppt/media/image28.gif" ContentType="image/gif"/>
  <Override PartName="/ppt/media/image31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15.png" ContentType="image/png"/>
  <Override PartName="/ppt/media/image2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186-FEE7-495A-A112-C5BF6CC7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4E04-E156-4779-87F9-5C6BDE1B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0ED-E90F-4CC7-8048-5559BC85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474-2DAC-4187-8358-DE755405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AAAB-3851-4B29-90B3-F087AAE0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6978-E716-4B34-B0AA-6659786E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E5B1-565F-47E6-993F-D79184DF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685F-9587-47AD-8516-5B8FD3C9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8590-4965-4389-9C52-F8E294FB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5517-5CEC-40D3-A663-10DB0333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6CF1-1C66-4153-B034-3471262C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438A-DE2C-4B3F-A23F-911BB8A0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B877-B627-4C90-ABA9-68B9BED2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A7CD-7633-4AC1-B607-869B12BF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3F2E-3A30-4BAD-956B-B5D27A38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823C-F6C7-49E2-8820-F30E0E15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62A7-5480-4734-9522-7B9F9164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DA71C-9ED4-4C0B-99EA-8998A8FE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A53A0-D32B-4DDF-976E-F04FA632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1FD9D-67C9-4EA3-8BB2-7535A04F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FD4C6-C483-4C8B-A3B9-B778A02B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7C26F-8CBC-4836-81FE-52168C13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D6D-40B7-42D2-B51C-E93607AD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25034-67C6-42BD-9CD9-8B9C76CA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0463C-5A44-4AC3-B22D-A969E94E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77D49-C77C-4C85-B1E2-7B4D1B4B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129BB-681B-4E6F-88CF-A74D2E6B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43167-4E6A-4484-BA09-E1C6B558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8B72F-ECD3-4291-9912-17C9344D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2E414-9551-4F6B-8C39-C8829232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0A4CD-00FC-4BB5-A3FA-8E6AD82A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94EB2-A6E6-4649-87B3-736734BB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BC254-6142-4857-9C30-44F101C5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EE7F-9520-4F73-AA94-FB9E5DB7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8962E-913F-41AE-98B0-04524B4F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524D7-E60A-478D-BBAF-994DB800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F20CD-ADB2-4087-9D69-B5E25B16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22472-595E-4E06-8A16-3B6C9F9F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38059-6C19-498F-9DBE-730C8795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07E90-95CB-4388-8C64-68182EF4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0BC96-1B6F-44DF-AA12-B0230FEB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96E41-974D-4E56-B3B4-9DA8CBA8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40E62-CFF3-497B-B813-89CB79A2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AC8C-6E53-439E-9707-D1A97133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B24-2052-470E-AFA9-7B740F24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235-79B9-489A-AB96-4B598C92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8AF5-CD43-41BD-A049-3B52399A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B01-2F99-41AB-928B-8CA4A880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45c75"/>
                </a:solidFill>
                <a:latin typeface="Arial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18F2B5-2D5B-402F-B672-A8C3773692B5}" type="slidenum">
              <a:rPr b="0" lang="en-GB" sz="1200" spc="-1" strike="noStrike">
                <a:solidFill>
                  <a:srgbClr val="045c75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1eaee"/>
                </a:solidFill>
                <a:latin typeface="Arial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C20727-9690-4D0F-A802-7A9F6A611A33}" type="slidenum">
              <a:rPr b="0" lang="en-GB" sz="1200" spc="-1" strike="noStrike">
                <a:solidFill>
                  <a:srgbClr val="d1eaee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1eaee"/>
                </a:solidFill>
                <a:latin typeface="Arial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461355-A2E1-48FC-B79F-1BB5C41F0A8C}" type="slidenum">
              <a:rPr b="0" lang="en-GB" sz="1200" spc="-1" strike="noStrike">
                <a:solidFill>
                  <a:srgbClr val="d1eaee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45c75"/>
                </a:solidFill>
                <a:latin typeface="Arial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53BAC7-1C58-456F-8098-F752B4082E78}" type="slidenum">
              <a:rPr b="0" lang="en-GB" sz="1200" spc="-1" strike="noStrike">
                <a:solidFill>
                  <a:srgbClr val="045c75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audio" Target="../media/apert2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2d700"/>
                </a:solidFill>
                <a:latin typeface="Times New Roman"/>
              </a:rPr>
              <a:t>THE</a:t>
            </a:r>
            <a:r>
              <a:rPr b="1" lang="en-US" sz="5000" spc="-1" strike="noStrike">
                <a:solidFill>
                  <a:srgbClr val="e2d700"/>
                </a:solidFill>
                <a:latin typeface="Calibri"/>
              </a:rPr>
              <a:t> </a:t>
            </a:r>
            <a:r>
              <a:rPr b="1" lang="en-US" sz="5000" spc="-1" strike="noStrike">
                <a:solidFill>
                  <a:srgbClr val="e2d700"/>
                </a:solidFill>
                <a:latin typeface="Times New Roman"/>
              </a:rPr>
              <a:t>WATER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1" lang="en-US" sz="4800" spc="-1" strike="noStrike">
                <a:solidFill>
                  <a:srgbClr val="e2d700"/>
                </a:solidFill>
                <a:latin typeface="Times New Roman"/>
              </a:rPr>
              <a:t>ENVIRONMENT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 rot="20922600">
            <a:off x="785880" y="3112560"/>
            <a:ext cx="3174840" cy="3124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585000">
            <a:off x="4731840" y="3265560"/>
            <a:ext cx="36036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LGA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THE LAKE IN DOJRAN IS CURATIVE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10008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LGAE CURE THE PEO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9a956"/>
                </a:solidFill>
                <a:latin typeface="Times New Roman"/>
              </a:rPr>
              <a:t>ANIMAL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 flipH="1" rot="10057800">
            <a:off x="393480" y="2286000"/>
            <a:ext cx="4030560" cy="3446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DELFIN.jpg"/>
          <p:cNvPicPr/>
          <p:nvPr/>
        </p:nvPicPr>
        <p:blipFill>
          <a:blip r:embed="rId2"/>
          <a:stretch/>
        </p:blipFill>
        <p:spPr>
          <a:xfrm rot="406200">
            <a:off x="4638600" y="2151000"/>
            <a:ext cx="40006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mk-MK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k-MK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3" name="Picture 6" descr="meduza.jpg"/>
          <p:cNvPicPr/>
          <p:nvPr/>
        </p:nvPicPr>
        <p:blipFill>
          <a:blip r:embed="rId1"/>
          <a:stretch/>
        </p:blipFill>
        <p:spPr>
          <a:xfrm>
            <a:off x="4357800" y="500040"/>
            <a:ext cx="4286160" cy="3076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dzvezda.JPG"/>
          <p:cNvPicPr/>
          <p:nvPr/>
        </p:nvPicPr>
        <p:blipFill>
          <a:blip r:embed="rId2"/>
          <a:stretch/>
        </p:blipFill>
        <p:spPr>
          <a:xfrm rot="20467800">
            <a:off x="387360" y="774360"/>
            <a:ext cx="4203720" cy="3098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zelka.jpg"/>
          <p:cNvPicPr/>
          <p:nvPr/>
        </p:nvPicPr>
        <p:blipFill>
          <a:blip r:embed="rId3"/>
          <a:stretch/>
        </p:blipFill>
        <p:spPr>
          <a:xfrm rot="21084600">
            <a:off x="428760" y="3499920"/>
            <a:ext cx="4000320" cy="2857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riba.jpg"/>
          <p:cNvPicPr/>
          <p:nvPr/>
        </p:nvPicPr>
        <p:blipFill>
          <a:blip r:embed="rId4"/>
          <a:stretch/>
        </p:blipFill>
        <p:spPr>
          <a:xfrm rot="307200">
            <a:off x="4571640" y="3642840"/>
            <a:ext cx="392904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8102520" cy="43765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2"/>
          <p:cNvSpPr/>
          <p:nvPr/>
        </p:nvSpPr>
        <p:spPr>
          <a:xfrm>
            <a:off x="2419200" y="5361120"/>
            <a:ext cx="17352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3"/>
          <a:stretch/>
        </p:blipFill>
        <p:spPr>
          <a:xfrm>
            <a:off x="5765760" y="5221440"/>
            <a:ext cx="2519280" cy="13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9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1838175400491 0 L -0.645666576160739 0 E">
                                      <p:cBhvr>
                                        <p:cTn id="52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5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1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4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3708360" y="928800"/>
            <a:ext cx="4578480" cy="50004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0" y="2924280"/>
            <a:ext cx="4284720" cy="52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0f6fc6"/>
                </a:solidFill>
                <a:latin typeface="Times New Roman"/>
              </a:rPr>
              <a:t>CROCODI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0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18517512897096 0.078740157480315 L -0.567909313060005 0.078740157480315 E">
                                      <p:cBhvr>
                                        <p:cTn id="73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644076057643 -0.0420997375328084 L -0.570239622231549 -0.0420997375328084 E">
                                      <p:cBhvr>
                                        <p:cTn id="76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88031496062992 -0.186561679790026 E">
                                      <p:cBhvr>
                                        <p:cTn id="79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2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2625840" y="1071720"/>
            <a:ext cx="5661000" cy="47862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468360" y="1844640"/>
            <a:ext cx="50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0f6fc6"/>
                </a:solidFill>
                <a:latin typeface="Times New Roman"/>
              </a:rPr>
              <a:t>DUC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23385826771654 0.294173228346457 E">
                                      <p:cBhvr>
                                        <p:cTn id="88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44330708661417 0.320419947506562 E">
                                      <p:cBhvr>
                                        <p:cTn id="9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5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k-MK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286240"/>
          </a:xfrm>
          <a:prstGeom prst="rect">
            <a:avLst/>
          </a:prstGeom>
          <a:ln w="0">
            <a:noFill/>
          </a:ln>
        </p:spPr>
      </p:pic>
      <p:sp>
        <p:nvSpPr>
          <p:cNvPr id="246" name="WordArt 3"/>
          <p:cNvSpPr txBox="1"/>
          <p:nvPr/>
        </p:nvSpPr>
        <p:spPr>
          <a:xfrm>
            <a:off x="971640" y="5661000"/>
            <a:ext cx="1504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3419640" y="189000"/>
            <a:ext cx="218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dbf5f9"/>
                </a:solidFill>
                <a:latin typeface="Times New Roman"/>
              </a:rPr>
              <a:t>STOR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k-MK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8429400" cy="50576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2160720" y="6024600"/>
            <a:ext cx="2679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2238480" y="404640"/>
            <a:ext cx="466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e2d700"/>
                </a:solidFill>
                <a:latin typeface="Times New Roman"/>
              </a:rPr>
              <a:t>BAMBOO CAN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9dd9"/>
                </a:solidFill>
                <a:latin typeface="Times New Roman"/>
              </a:rPr>
              <a:t>WHAT IS AN ENVIRONMENT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097080" cy="441828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5"/>
          <p:cNvSpPr/>
          <p:nvPr/>
        </p:nvSpPr>
        <p:spPr>
          <a:xfrm>
            <a:off x="3708360" y="1844640"/>
            <a:ext cx="4929120" cy="2071800"/>
          </a:xfrm>
          <a:prstGeom prst="cloudCallout">
            <a:avLst>
              <a:gd name="adj1" fmla="val -56634"/>
              <a:gd name="adj2" fmla="val 120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mk-MK" sz="1800" spc="-1" strike="noStrike">
                <a:solidFill>
                  <a:srgbClr val="ffffff"/>
                </a:solidFill>
                <a:latin typeface="Arial"/>
              </a:rPr>
              <a:t>ЖИВОТНА  СРЕДИНА  Е        </a:t>
            </a:r>
            <a:r>
              <a:rPr b="0" lang="mk-M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mk-M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An environment is a place where there are conditions for life for the plants and the anima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THINK AND ANSWER THE FOLLOWING QUESTIONS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Who lives in the wat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Which animals live in the wat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Which plants live in the wat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How do aquatic animals move in their environmen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a956"/>
                </a:solidFill>
                <a:latin typeface="Constantia"/>
              </a:rPr>
              <a:t>LET’S THINK!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d700"/>
                </a:solidFill>
                <a:latin typeface="Constantia"/>
              </a:rPr>
              <a:t>WHO LIVES IN THE WATER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Picture 13" descr="question-mark.jpg"/>
          <p:cNvPicPr/>
          <p:nvPr/>
        </p:nvPicPr>
        <p:blipFill>
          <a:blip r:embed="rId1"/>
          <a:stretch/>
        </p:blipFill>
        <p:spPr>
          <a:xfrm rot="20863800">
            <a:off x="755280" y="980640"/>
            <a:ext cx="2303640" cy="2116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kids.jpg"/>
          <p:cNvPicPr/>
          <p:nvPr/>
        </p:nvPicPr>
        <p:blipFill>
          <a:blip r:embed="rId2"/>
          <a:stretch/>
        </p:blipFill>
        <p:spPr>
          <a:xfrm rot="680400">
            <a:off x="5149800" y="937800"/>
            <a:ext cx="28717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FLOWER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85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LOTU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3" name="Picture 3" descr="lotos.jpg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PLANT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PLANT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LGA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8928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LGA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gistered User</dc:creator>
  <dc:description/>
  <dc:language>en-US</dc:language>
  <cp:lastModifiedBy>User</cp:lastModifiedBy>
  <dcterms:modified xsi:type="dcterms:W3CDTF">2011-12-14T18:31:58Z</dcterms:modified>
  <cp:revision>20</cp:revision>
  <dc:subject/>
  <dc:title>Slide 1</dc:title>
</cp:coreProperties>
</file>